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177-D4F8-4F83-BAB5-3B10690F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662-7EC8-4416-8AC3-1204B315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9F8-554B-4806-BFA3-19934458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978-0C28-434C-9ED1-3BD452DB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BE1B-5A12-4587-8362-2347D3B6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6CAB-2A42-413A-AB4B-5A20AA13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66F0-4A57-45B0-BA9D-2173BB96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2C4B-30D6-4FAB-A9BA-67659618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0423-1791-4FBF-8C90-8A4F1421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05D5-86F5-47F5-A0B3-A1DE1F93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E2F2-BF51-4425-A18C-4E54FB09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C7D-805D-40AA-AFE6-7EEF1C81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2427-F899-4A87-8528-23D5117E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FED6-6142-4199-8FA6-6561EA5A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3FEF-62CE-4A39-BD16-1505AA38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6B0E-118D-4CC6-95C0-F9E8C4BC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19DD-EA7A-4597-AF8D-93681AA4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D863-F698-4C3D-997B-EE942E21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AF5EB-787B-4D62-A7DD-EBD9694C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0A8E-ED95-4190-B2BD-BDD9B4CB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4C28D-CF01-4C86-81C7-BE81DA28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9EFE1-3ADA-4FC2-804B-9975C007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E0B-03B6-43AC-8255-29CB6B0B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12BBC-336B-47FB-A158-3D153F4D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9F6C2-0351-4CD9-8C58-8C30A935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F8E11-1976-4A50-854E-F0271BDD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0AC8-D58B-441E-8FA9-9A7CC971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6C80-EBA8-4688-BED8-637579B0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12D38-FBB1-472F-BE5C-872C4FEC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692D-CB9F-4A43-9A9C-E1E4BCC4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C20FF-55E0-4BF7-B58E-E9E260D3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A430-83AD-4A5D-9477-96AF5663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91DC9-BFD7-4BE6-B555-EFDA18B8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6E3-6C88-4D69-A6B9-64F2760F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48477-58E0-495A-8971-E656459D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3DF5-473B-4483-997B-C5E9401C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50DC8-520D-4DAE-9179-66167410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1CFB7-1C3F-447B-B009-CDDD86C9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F5BFF-DD37-4170-8ECD-6057ADD1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C039-78BF-45B6-89ED-4833D044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40DCC-18CD-40DE-838D-C04A5B60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74884-608F-40A3-9982-1CBB8D87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C5F47-89C9-4FD5-95E3-56D797FA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02253-F8A0-46F3-9638-6010EDED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0A2-0131-4619-B40B-687E75A8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1D642-AC97-439A-8C82-1C67B7C4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6D95E-F90C-43DB-AACF-EBB3CC1A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40BDB-BB6D-42F2-8736-BA3DAE13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5603E-89FA-43FD-8832-C19A2F66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D4C09-1BEF-4029-901A-15E4424E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72627-110A-4960-B55F-46CD5EE9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5516B-9113-48E0-8978-B5FAA4A5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81E5C-B5F6-41F5-8CA6-867E8C10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531F4-389F-46E8-AD8C-1FE3D0E7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3DDC8-C24D-4F02-98C9-56DCDF46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AC8-84D0-4C24-B8A7-2DE3CE31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AE3FA-F249-4497-9DAD-BC0FD5E1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602-5E17-4548-B984-20FA996A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0D8-C35A-4C5B-95BD-884702DD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2A1-00FB-4E20-A041-76FE7330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8cada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EECA-2CE7-436D-928C-1B31D24E01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8cada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29B6-3ADD-466F-AC30-E00DCD526A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8cada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967C-D928-4984-ADBC-E2F66CFFC2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8cada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646b8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F840-C576-4CC0-A843-C3D83B4AEC4B}" type="slidenum">
              <a:rPr b="0" lang="en-US" sz="16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8cada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cb4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5360-7EBC-42C4-BCD8-51EB4FECCE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sc-randall@hahc.org.uk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-262080" y="111852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Franklin Gothic Medium"/>
              </a:rPr>
              <a:t>DO NOW! 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450000" y="1740960"/>
            <a:ext cx="6510600" cy="12956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IN YOUR RED FOLDERS FIND YOUR LOG WORKSHEET AND FILL IN THE BOXES FOR THE ALL THE PARTS YOU HAVE COMPLETED FOR YOUR TRANCE COMPOSITION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7" name="Picture 5" descr="C:\Documents and Settings\sc-randall\Local Settings\Temporary Internet Files\Content.IE5\Q59YDQIX\MC900237453[1].wmf"/>
          <p:cNvPicPr/>
          <p:nvPr/>
        </p:nvPicPr>
        <p:blipFill>
          <a:blip r:embed="rId1"/>
          <a:stretch/>
        </p:blipFill>
        <p:spPr>
          <a:xfrm>
            <a:off x="4559400" y="2855880"/>
            <a:ext cx="33256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048360" cy="18003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 5: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Franklin Gothic Medium"/>
              </a:rPr>
              <a:t>PROMOTING YOUR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Franklin Gothic Medium"/>
              </a:rPr>
              <a:t>TRANCE TRACK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356000" y="2924280"/>
            <a:ext cx="475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on 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xplore how the music industry promotes and sells music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a song that has made good use of promotional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evelop promotional material for your trance tr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Medium"/>
              </a:rPr>
              <a:t>HOW DOES THE MUSIC INDUSTRY SELL MUSIC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413000"/>
            <a:ext cx="8686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3160" indent="-173160">
              <a:spcBef>
                <a:spcPts val="3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Use the internet to research how the modern music industry / music business works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On an A4 page write up your findings (do not copy and paste). Please print /  email me your research (</a:t>
            </a:r>
            <a:r>
              <a:rPr b="0" lang="en-GB" sz="2800" spc="-1" strike="noStrike" u="sng">
                <a:solidFill>
                  <a:srgbClr val="00a3d6"/>
                </a:solidFill>
                <a:uFillTx/>
                <a:latin typeface="Franklin Gothic Book"/>
                <a:hlinkClick r:id="rId1"/>
              </a:rPr>
              <a:t>sc-randall@hahc.org.uk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) / let me save it on my USB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Find a song that makes good use of promotional material and mention it in your write up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Medium"/>
              </a:rPr>
              <a:t>HOW WILL YOU PROMOTE YOUR TRANCE TRACK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413000"/>
            <a:ext cx="8686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3160" indent="-173160">
              <a:spcBef>
                <a:spcPts val="3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Produce the promotional material you will use to promote your trance track to the rest of the class next week. You could make an advert, poster, CD cover, visuals (e.g. a PowerPoint) etc. Make sure they are ready for next lesson – finish off for homework if necessary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When we listen to your pieces we are going to have a competition to see who can promote their track the best and ‘earn’ the most money. You will all be assigned with an amount to spend on each others music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0920" y="36504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Medium"/>
              </a:rPr>
              <a:t>TRANCE COMPOSING - LOG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10920" y="980640"/>
            <a:ext cx="784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998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omplete the ‘Promotional Material’ box on the third log worksheet. Explain how you have been influenced by the music industry to promote your trance track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998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Also think about any directions you may have when your track is played to the class and fill out the ‘Performance Instructions’ box on the log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9:08:33Z</dcterms:created>
  <dc:creator>Jonathan Savage</dc:creator>
  <dc:description/>
  <dc:language>en-US</dc:language>
  <cp:lastModifiedBy>Randall C.</cp:lastModifiedBy>
  <dcterms:modified xsi:type="dcterms:W3CDTF">2012-04-26T12:23:07Z</dcterms:modified>
  <cp:revision>59</cp:revision>
  <dc:subject/>
  <dc:title>Trance Music</dc:title>
</cp:coreProperties>
</file>